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2452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2452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2D31C1-0ADD-40DD-8250-AA12DC9D00E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05ECBC-4329-47BE-B304-79C71BBA749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DF3433-B7CF-476D-89CA-9C8A31180EC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C5F79A-7B9A-48DA-808D-B8BD4763297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315D46-CB1A-4DAF-B526-777149E827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EEA-E75B-4B6C-AB4B-F21F8129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D49-86A9-4EE0-B3A1-F79FE55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55A-2928-47D0-9373-F3D55DB9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69C-1753-420B-996D-E524E2ED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9B33-FB6B-4411-920C-19E0EF62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CD45-404A-4804-824C-B6BE8DF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255-13D2-4436-999A-2B566556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C837-1DC9-42AB-A047-0F8C888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E0A-BD38-43AE-8C3B-1896D0C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E2CF-2C50-4E84-B827-29112E0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248B-AF4C-418B-95A6-90EADBA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B1B-4078-4293-936C-7EA5850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0F22-C063-404F-96BA-291ABB7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545-385A-435B-8E1F-FD107B6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10CB-0B71-45AA-BBCE-00745B8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374-2722-4F6A-BB6F-D0280E20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C224-52C1-4B32-A502-FCD7196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316F-F557-46FB-8B5B-D43FCE8B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345D-177F-4018-B46B-CF816F20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E94D-C8CF-4365-8F90-6794950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F579-5F42-41F6-A9BD-1CD1859D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2C57-1244-4C73-BEEB-E0EFEE10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097-80B6-4473-B571-A6A15F1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EF21-B720-415C-B945-B871039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DADF-7AA1-4ABF-A0B7-A9FEA5F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B388-10E6-4175-B698-538283F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7C24-1ADA-46EC-A5D6-CD62533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7FBF-BB3C-49B0-9A36-49CC3D08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A400-6E99-43B6-9FE0-B266C7A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F7E1-F201-43B3-A42C-07202C0C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5DEF-DF0B-4BE9-80A3-AACB8753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2B3C-5FE3-495C-B889-1DBED505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BF99-9B2A-4873-B2DA-61BE85E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8D8-F099-41E7-BA26-9A5E8FF2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F64C-F2FA-4863-9C5F-C131968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BAC2-1300-4B92-B5DE-D57DE96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D9B5-8C81-4166-B115-8D9D596E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BBF7-86DD-4D1D-A4CC-B6D9A1FC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28EE-EF9C-4369-8193-D4D40EB0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A7E3-3C93-47A3-AE4C-FE37FD9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0416-98BC-4B61-976E-7483027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3DC4-578F-4E1D-9EED-1563EED1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9F91-C724-40A2-A6F2-F2C8C536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320-7AEB-43F6-A8A3-971F430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92E-E1F3-4248-82ED-7294B87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F90-B9F1-4E0F-A132-D121902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243-3293-4C1D-B2C8-0E2B2A0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1B8-3CBE-4A8A-8107-43066ED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833-2EA9-4BFC-BF15-4714C98BA712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CCA-E5BE-44A9-8391-9659DC491952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213-7548-4B91-9061-766D9F50F1FF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7511-5260-4BC8-82DD-C7A667B8290A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3080" y="2127240"/>
            <a:ext cx="8620200" cy="1109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19320" y="321264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324480" y="44956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14800" y="457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467480" y="5335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62120" y="2286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2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286000" y="3382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7467480" y="28954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80880" y="45720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971800" y="5867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7543800" y="49528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638680" y="457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362320" y="53341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066680" y="34290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8381880" y="1295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6510240" y="3382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2133720" y="38088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633680" y="55627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304920" y="27432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8229600" y="3733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6400800" y="53341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572000" y="5867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533520" y="58212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200" spc="-1" strike="noStrike">
                <a:solidFill>
                  <a:srgbClr val="000000"/>
                </a:solidFill>
                <a:latin typeface="Lucida Grande"/>
                <a:ea typeface="Arial"/>
              </a:rPr>
              <a:t>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410080" y="3886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2743200" y="41148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7162920" y="38862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8186760" y="5668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457200" y="10666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3048120" y="2286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7315200" y="6019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1176480" y="46483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642960" y="19810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5672160" y="597384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7696080" y="20574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39"/>
          <p:cNvSpPr txBox="1"/>
          <p:nvPr/>
        </p:nvSpPr>
        <p:spPr>
          <a:xfrm>
            <a:off x="1371600" y="189000"/>
            <a:ext cx="59436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¿Adónde va la tild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37" name="Picture 36" descr="ortografia tabla1[1].jpg"/>
          <p:cNvPicPr/>
          <p:nvPr/>
        </p:nvPicPr>
        <p:blipFill>
          <a:blip r:embed="rId4"/>
          <a:stretch/>
        </p:blipFill>
        <p:spPr>
          <a:xfrm>
            <a:off x="1042920" y="3213000"/>
            <a:ext cx="669780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-30240" y="-115920"/>
            <a:ext cx="8850240" cy="817560"/>
          </a:xfrm>
          <a:prstGeom prst="rect">
            <a:avLst/>
          </a:prstGeom>
          <a:ln w="0">
            <a:noFill/>
          </a:ln>
        </p:spPr>
      </p:pic>
      <p:sp>
        <p:nvSpPr>
          <p:cNvPr id="329" name="Cloud"/>
          <p:cNvSpPr/>
          <p:nvPr/>
        </p:nvSpPr>
        <p:spPr>
          <a:xfrm>
            <a:off x="6019920" y="4562640"/>
            <a:ext cx="2743200" cy="183816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80880" y="801720"/>
            <a:ext cx="8382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SDRÚJU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(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yllable from the end of the wor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914400" y="2055960"/>
            <a:ext cx="7315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édic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i   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ápice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pi   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eléfon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te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fo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utomátic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u  t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á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i  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ájar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ja   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ámpar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m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a    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árpad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ár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a   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ailábam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ba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ba  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rúju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brú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ju 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ápid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i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6324480" y="50166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TO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l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esdrújul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1981080" y="205740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2057400" y="2514600"/>
            <a:ext cx="30492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3276720" y="327672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1981080" y="3657600"/>
            <a:ext cx="381240" cy="45720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2133720" y="4114800"/>
            <a:ext cx="53316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2209680" y="4572000"/>
            <a:ext cx="53352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2895480" y="4952880"/>
            <a:ext cx="381240" cy="38124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057400" y="5334120"/>
            <a:ext cx="60948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2057400" y="579132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8832600" cy="1079640"/>
          </a:xfrm>
          <a:prstGeom prst="rect">
            <a:avLst/>
          </a:prstGeom>
          <a:ln w="0">
            <a:noFill/>
          </a:ln>
        </p:spPr>
      </p:pic>
      <p:sp>
        <p:nvSpPr>
          <p:cNvPr id="344" name="Cloud"/>
          <p:cNvSpPr/>
          <p:nvPr/>
        </p:nvSpPr>
        <p:spPr>
          <a:xfrm>
            <a:off x="6019920" y="4562640"/>
            <a:ext cx="2743200" cy="183816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304920" y="189000"/>
            <a:ext cx="83818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BREESDRÚJU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s de l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(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yllable from the end of the wor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914400" y="2514600"/>
            <a:ext cx="7315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íga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ga    m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lévas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l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va    s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éndenos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é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e    nos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ómete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ó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me    te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críbe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es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r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be    m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uéltanos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él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ta    nos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píta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r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í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a    me 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úmpleme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úm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le    me 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raígamel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ra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ga    me  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324480" y="4857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TO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l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sobreesdrújul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2286000" y="251460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2286000" y="2895480"/>
            <a:ext cx="45720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2438280" y="3352680"/>
            <a:ext cx="53352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2286000" y="373392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3124080" y="419112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"/>
          <p:cNvSpPr/>
          <p:nvPr/>
        </p:nvSpPr>
        <p:spPr>
          <a:xfrm>
            <a:off x="2514600" y="4572000"/>
            <a:ext cx="60948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2895480" y="502920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2590920" y="5410080"/>
            <a:ext cx="60948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2514600" y="5867280"/>
            <a:ext cx="68904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36360" y="49320"/>
            <a:ext cx="8783640" cy="1176120"/>
          </a:xfrm>
          <a:prstGeom prst="rect">
            <a:avLst/>
          </a:prstGeom>
          <a:ln w="0">
            <a:noFill/>
          </a:ln>
        </p:spPr>
      </p:pic>
      <p:sp>
        <p:nvSpPr>
          <p:cNvPr id="358" name="Cloud"/>
          <p:cNvSpPr/>
          <p:nvPr/>
        </p:nvSpPr>
        <p:spPr>
          <a:xfrm>
            <a:off x="826920" y="1413000"/>
            <a:ext cx="7239240" cy="1492200"/>
          </a:xfrm>
          <a:custGeom>
            <a:avLst/>
            <a:gdLst>
              <a:gd name="textAreaLeft" fmla="*/ 997560 w 7239240"/>
              <a:gd name="textAreaRight" fmla="*/ 5726880 w 723924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187280" y="1628640"/>
            <a:ext cx="65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Necesitan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 la tilde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solamente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 las palabras 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AGUDAS 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que terminan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28600" y="28954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vo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228600" y="3276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4952880" y="2895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4724280" y="3276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609480" y="3276720"/>
            <a:ext cx="3200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p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mió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cu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m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rá       escri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hablé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ailó     vi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5181480" y="321480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raz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nta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l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ta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resi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2286000" y="4800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"/>
          <p:cNvSpPr/>
          <p:nvPr/>
        </p:nvSpPr>
        <p:spPr>
          <a:xfrm>
            <a:off x="2057400" y="51814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2057400" y="5181480"/>
            <a:ext cx="48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glé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sab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nterés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cocés     entera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rancés     come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3429000" y="2243160"/>
            <a:ext cx="297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vocal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, “</a:t>
            </a: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n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,” “</a:t>
            </a: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9080" y="60480"/>
            <a:ext cx="8839080" cy="1244520"/>
          </a:xfrm>
          <a:prstGeom prst="rect">
            <a:avLst/>
          </a:prstGeom>
          <a:ln w="0">
            <a:noFill/>
          </a:ln>
        </p:spPr>
      </p:pic>
      <p:sp>
        <p:nvSpPr>
          <p:cNvPr id="371" name="Cloud"/>
          <p:cNvSpPr/>
          <p:nvPr/>
        </p:nvSpPr>
        <p:spPr>
          <a:xfrm>
            <a:off x="762120" y="1447920"/>
            <a:ext cx="7238880" cy="1492200"/>
          </a:xfrm>
          <a:custGeom>
            <a:avLst/>
            <a:gdLst>
              <a:gd name="textAreaLeft" fmla="*/ 997560 w 7238880"/>
              <a:gd name="textAreaRight" fmla="*/ 5726520 w 723888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66680" y="16747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Necesitan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la tilde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solamente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las palabras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LANAS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terminan en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nsonante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sea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“n”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ni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“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04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3049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609480" y="3733920"/>
            <a:ext cx="4114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533520" y="3641760"/>
            <a:ext cx="12189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r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fí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ó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ár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r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2514600" y="3641760"/>
            <a:ext cx="1219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zú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evó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rá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olí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lcá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6553080" y="3581280"/>
            <a:ext cx="198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rág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hu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moránd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é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4495680" y="3565440"/>
            <a:ext cx="13716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rtí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Gó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án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odríg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íl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9080" y="60480"/>
            <a:ext cx="8800920" cy="12445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609480" y="3733920"/>
            <a:ext cx="4114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609480" y="3276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labras ESDRÚJ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22860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724280" y="3276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labras SOBREESDRÚJ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480060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33520" y="3749760"/>
            <a:ext cx="39621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temátic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desé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pectácu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pé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túpi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ág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apid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rédi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uch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a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952880" y="3733920"/>
            <a:ext cx="4114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ómprame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recíbanos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íde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ermínam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iégam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ábrem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echáza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cánten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ágam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rága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párta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recíbem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loud"/>
          <p:cNvSpPr/>
          <p:nvPr/>
        </p:nvSpPr>
        <p:spPr>
          <a:xfrm>
            <a:off x="533520" y="1371600"/>
            <a:ext cx="2895480" cy="1838160"/>
          </a:xfrm>
          <a:custGeom>
            <a:avLst/>
            <a:gdLst>
              <a:gd name="textAreaLeft" fmla="*/ 398880 w 2895480"/>
              <a:gd name="textAreaRight" fmla="*/ 2290680 w 289548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914400" y="19018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LAS ESDRÚJULAS LLEVAN LA TILDE EN LA 3a SÍLABA</a:t>
            </a:r>
            <a:r>
              <a:rPr b="1" lang="es-MX" sz="16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5181480" y="1438200"/>
            <a:ext cx="3048120" cy="1838520"/>
          </a:xfrm>
          <a:custGeom>
            <a:avLst/>
            <a:gdLst>
              <a:gd name="textAreaLeft" fmla="*/ 420120 w 3048120"/>
              <a:gd name="textAreaRight" fmla="*/ 2411280 w 304812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5410080" y="1971720"/>
            <a:ext cx="25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LAS SOBREESDRÚJULAS LLEVAN LA TILDE EN LA 4</a:t>
            </a:r>
            <a:r>
              <a:rPr b="1" lang="es-MX" sz="1500" spc="-1" strike="noStrike" baseline="36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 ó 5</a:t>
            </a:r>
            <a:r>
              <a:rPr b="1" lang="es-MX" sz="1500" spc="-1" strike="noStrike" baseline="36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 SÍLAB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4" descr=""/>
          <p:cNvPicPr/>
          <p:nvPr/>
        </p:nvPicPr>
        <p:blipFill>
          <a:blip r:embed="rId1"/>
          <a:stretch/>
        </p:blipFill>
        <p:spPr>
          <a:xfrm>
            <a:off x="36360" y="73080"/>
            <a:ext cx="8942400" cy="1182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304920" y="144792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HOMÓFONAS que suenan igual pero una tiene la tilde para distinguir otr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762120" y="265104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él 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e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ú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u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é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ú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a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é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ás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m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í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si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ólo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í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mi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é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    *dí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57200" y="40384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os ADVERBIOS que combinan con el sufijo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“mente”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El adverbio mantiene el acento escrito si la raíz lleva un til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914400" y="556272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ápid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difícil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estúpid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ácil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automátic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inú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304920" y="121932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que tienen un DIPTONGO (dos vocales juntas) que consiste de una vocal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(i,u)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 una vocal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fuerte (a,e,o)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y produce dos sonid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eparad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, requieren una tilde en la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vocal débil (i,u)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 dice que est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ptong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n en  HIATO, o sea, forman un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idipt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990720" y="3247920"/>
            <a:ext cx="784836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d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hab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paí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viví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aleg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venía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aíz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ayo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t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onr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ten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eír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fr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aú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huía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querría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impat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oc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Díaz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elod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energ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í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grú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ataúd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oí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bambú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762120" y="2906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304920" y="1219320"/>
            <a:ext cx="800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INTERROGATIVAS necesitan llevar la tilde cuando van entre signos de interrogación y cuando son pregunt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irec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762120" y="266688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 eso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ié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 él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e llamas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chico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iene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cuestan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le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zapa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85800" y="419112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 de pregunta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indirec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o no sé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oy a hacer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sabe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e o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i supier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 haces sufr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a no sabem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a esta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762120" y="22096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 de palabra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rog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04920" y="144792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EXCLAMATORIAS necesitan llevar la tilde cuando van entre signos de excl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990720" y="266688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elleza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útil er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que no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 haces sufr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304920" y="35812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os pronombres DEMOSTRATIVOS llevan la tilde cuando reemplazan al sustan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990720" y="4800600"/>
            <a:ext cx="784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e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a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 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os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   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= 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is one, the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e     ésa       ésos        ésas  = 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at one, tho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quél   aquélla   aquéllos    aquéllas =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at one, tho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9080" y="-6480"/>
            <a:ext cx="8800920" cy="1427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304920" y="1700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D: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Identifica la sílaba tónica (el énfasis),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subrayándol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y luego determina si debería llevar la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tilde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4920" y="3141720"/>
            <a:ext cx="84582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1. alfombr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6. pastel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1. continuo (I continu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2. celebre (I celebrated)     7. examene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2. reconcent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3.  matrimoni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8. mandon               13.electroencefalograf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4. metodologi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9. aprendieron        14. nitida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5. continuo (continuous)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10. facilidad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5. respondia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99400" cy="1024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76320" y="16765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primer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segund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tercer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Antes de la ante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cuart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71600" y="3733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mplo: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743200" y="4343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               ño               ri                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505320" y="40384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Señ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990720" y="51814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s de la 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04812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5257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núltima     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66294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1981080" y="46483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 flipH="1">
            <a:off x="3733560" y="464832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56272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7010280" y="46483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2388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5486400" y="58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523880" y="6019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36576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04812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 flipH="1">
            <a:off x="1981080" y="46483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 flipH="1">
            <a:off x="3733560" y="464832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556272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9080" y="689040"/>
            <a:ext cx="8800920" cy="8715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304920" y="184464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E: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Explica por qué se escriben con acento cada una de las palabras siguientes. Usa explicaciones que emplean los términos </a:t>
            </a:r>
            <a:r>
              <a:rPr b="0" i="1" lang="es-MX" sz="2200" spc="-1" strike="noStrike">
                <a:solidFill>
                  <a:srgbClr val="000000"/>
                </a:solidFill>
                <a:latin typeface="Comic Sans MS"/>
              </a:rPr>
              <a:t>sobreesdrújula, esdrújula, llana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i="1" lang="es-MX" sz="2200" spc="-1" strike="noStrike">
                <a:solidFill>
                  <a:srgbClr val="000000"/>
                </a:solidFill>
                <a:latin typeface="Comic Sans MS"/>
              </a:rPr>
              <a:t> agu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04920" y="3645000"/>
            <a:ext cx="84582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 pap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6. actuó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1. cánt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comíam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7. Yo sí me fui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2. Pero él se qued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3. bendici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8. actú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3. content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4. Tráigamelos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. Álvarez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4. Dámelo a 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5.  saz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0. biologí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5. f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9080" y="542880"/>
            <a:ext cx="8800920" cy="8780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28600" y="16286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F: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Pon acentos donde hagan falta. Luego explica por qué los has puesto, citando la regla apropi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28600" y="2924280"/>
            <a:ext cx="86868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1. El catedratico Juan Ramon Gutierrez Candelaria abrio la ventana de par en par y grito a viva voz: “¡Ya veras!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2. Para sacar veintitres fotografias con su camara fotografica, el muchacho ingenuo subio aun mas a la pirami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3. Si yo no me caso es porque Hector, el unico amor de mi vida, ya se caso con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4. A Alicia le gustaria la musica japonesa, no la hunga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5. Yo practico el piano practicamente todos los d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080" y="396720"/>
            <a:ext cx="8800920" cy="8780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6320" y="15573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F: Pon acentos donde hagan falta. Luego explica por qué los has puesto, citando la regla apropi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2280" y="2708280"/>
            <a:ext cx="8686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6. Lloro muchisimo la distraida ancianita hasta que a ultima hora mu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7. Tambien se le ocurrio que debia estudiar mas para sus exame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8. Rene se caso con Maria Concepcion y ahora tienen tres beb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9. A mi no me engaña ni el leon mas astu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0. Mi tio en un hipocrita: a todos les dice que si, pero en el fondo nunca esta de acuer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4" descr=""/>
          <p:cNvPicPr/>
          <p:nvPr/>
        </p:nvPicPr>
        <p:blipFill>
          <a:blip r:embed="rId1"/>
          <a:stretch/>
        </p:blipFill>
        <p:spPr>
          <a:xfrm>
            <a:off x="128520" y="-249120"/>
            <a:ext cx="856476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04920" y="1125360"/>
            <a:ext cx="853416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rcicio A: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¿Cómo se llama esa sílaba?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Separa la palabra en sílabas y determina el nombre de la sílaba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. hidratación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Maribel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Linda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prim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estupendamente / ¿Cua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antes de la 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obstáculo / ¿Cua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segund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04920" y="3962520"/>
            <a:ext cx="8534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rcicio B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etermina cuál es la sílaba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subrayad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esesperadamente = de   ses    pe 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a   men   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Andrés =  An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d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cucaracha =  cu    ca 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cerveza  =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cer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ve   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Lazarillo  =  La    za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i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-85680" y="-85680"/>
            <a:ext cx="8905680" cy="10000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52280" y="914400"/>
            <a:ext cx="899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se puede encontrar en palabras donde la sílaba tiene el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onido más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más fuerte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y en palabras con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el acento escrit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 También se le llama la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sílaba tón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90720" y="2209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Ejemplos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447920" y="2666880"/>
            <a:ext cx="74674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casa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libertad               li      ber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t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inglés                   in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g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lápiz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  p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édico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mé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di    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examen                e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x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exámenes             e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xá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men  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3809880" y="2666880"/>
            <a:ext cx="45720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5334120" y="3124080"/>
            <a:ext cx="60948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4419720" y="3657600"/>
            <a:ext cx="6858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3809880" y="41911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3"/>
          <p:cNvSpPr/>
          <p:nvPr/>
        </p:nvSpPr>
        <p:spPr>
          <a:xfrm>
            <a:off x="3733920" y="4648320"/>
            <a:ext cx="60948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4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8901000" cy="963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152280" y="1523880"/>
            <a:ext cx="88394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C: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Divide las siguientes palabras en sílabas. Traza un círculo  alrededor de la sílaba que lleva el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mpl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:     </a:t>
            </a:r>
            <a:r>
              <a:rPr b="1" i="1" lang="es-MX" sz="2200" spc="-1" strike="noStrike">
                <a:solidFill>
                  <a:srgbClr val="000000"/>
                </a:solidFill>
                <a:latin typeface="Comic Sans MS"/>
              </a:rPr>
              <a:t>pincel     pin   cel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[énfasis en la primera sílaba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. Antoni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6.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2. feroz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7. árb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3. rápid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8. ciu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4. valiente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9. tendrás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5. bañándose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0. habláb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457200" y="2044800"/>
            <a:ext cx="10666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71800" y="273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4191120" y="2438280"/>
            <a:ext cx="53316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6"/>
          <p:cNvSpPr/>
          <p:nvPr/>
        </p:nvSpPr>
        <p:spPr>
          <a:xfrm>
            <a:off x="762120" y="2427120"/>
            <a:ext cx="8001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. el (he/him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papa (father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lapiz (penci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japones (Japanes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cinico (cynic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. vendeselo (sell it to him/her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. Juarez (last nam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. compramelo (buy it for m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4" descr=""/>
          <p:cNvPicPr/>
          <p:nvPr/>
        </p:nvPicPr>
        <p:blipFill>
          <a:blip r:embed="rId1"/>
          <a:stretch/>
        </p:blipFill>
        <p:spPr>
          <a:xfrm>
            <a:off x="1268280" y="73080"/>
            <a:ext cx="7882200" cy="7747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304920" y="1600200"/>
            <a:ext cx="85341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ólo las vocales (á, é, í, ó, ú) pueden llevar la tilde (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´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5053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9880" y="32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pap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7339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láp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41972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japo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962520" y="45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486400" y="4876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véndes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44197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Juá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257800" y="5715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cómpram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04920" y="826920"/>
            <a:ext cx="8534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El acento escrito (la tilde) es una pequeña rayita (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´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) que se coloca sobre la vocal de la sílaba para indicar el 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1" i="1" lang="es-MX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0880" y="20574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¡La mayoría de las palabras 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no llevan acento escrit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-85680" y="115920"/>
            <a:ext cx="8905680" cy="1341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0" y="1600200"/>
            <a:ext cx="8534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 clasificación de las palabras depende de la pronunciación de la palabra y la posición del énf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n el español, las palabras se clasifican en CUATRO CL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5105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V.  SOBREESDRÚJULAS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= llevan el énfasis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cuart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52280" y="312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AGUDAS=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levan el énfasis en la primer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0" y="4481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II. ESDRÚJULAS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= llevan el énfasis en la tercer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52280" y="3809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I. LLANAS (GRAVES)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= llevan el énfasis en la segund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loud"/>
          <p:cNvSpPr/>
          <p:nvPr/>
        </p:nvSpPr>
        <p:spPr>
          <a:xfrm>
            <a:off x="5029200" y="42670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Rectangle 4" descr=""/>
          <p:cNvPicPr/>
          <p:nvPr/>
        </p:nvPicPr>
        <p:blipFill>
          <a:blip r:embed="rId1"/>
          <a:stretch/>
        </p:blipFill>
        <p:spPr>
          <a:xfrm>
            <a:off x="-30240" y="-85680"/>
            <a:ext cx="8850240" cy="10364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0" y="851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90720" y="1676520"/>
            <a:ext cx="7010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ailar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ba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dministrador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ad   mi   ni  str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natura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na  tu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loj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r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ctriz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c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te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h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amá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m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é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in   te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apitá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ca   p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á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anció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can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rancés     fran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438280" y="1676520"/>
            <a:ext cx="4572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4724280" y="205740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895480" y="2514600"/>
            <a:ext cx="457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438280" y="37339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2438280" y="4114800"/>
            <a:ext cx="4572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2971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>
            <a:off x="2819520" y="5410080"/>
            <a:ext cx="6094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257800" y="47214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Algun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gu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2438280" y="2895480"/>
            <a:ext cx="4572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2438280" y="327672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2895480" y="5791320"/>
            <a:ext cx="53352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0"/>
          <p:cNvSpPr/>
          <p:nvPr/>
        </p:nvSpPr>
        <p:spPr>
          <a:xfrm>
            <a:off x="2971800" y="457200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762120" y="12193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-60480" y="-249120"/>
            <a:ext cx="8826480" cy="1339560"/>
          </a:xfrm>
          <a:prstGeom prst="rect">
            <a:avLst/>
          </a:prstGeom>
          <a:ln w="0">
            <a:noFill/>
          </a:ln>
        </p:spPr>
      </p:pic>
      <p:sp>
        <p:nvSpPr>
          <p:cNvPr id="315" name="Cloud"/>
          <p:cNvSpPr/>
          <p:nvPr/>
        </p:nvSpPr>
        <p:spPr>
          <a:xfrm>
            <a:off x="5867280" y="40384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990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LAN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990720" y="182880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es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onit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b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entiros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men   t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xcelente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ex    c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e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olume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vo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lu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áci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f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fícil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di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f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zúcar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zú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ópez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ó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6095880" y="44928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Algun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llan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3505320" y="312408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2514600" y="228600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3429000" y="266688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2590920" y="3505320"/>
            <a:ext cx="380880" cy="3045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1905120" y="1905120"/>
            <a:ext cx="380880" cy="3045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"/>
          <p:cNvSpPr/>
          <p:nvPr/>
        </p:nvSpPr>
        <p:spPr>
          <a:xfrm>
            <a:off x="1835280" y="3933720"/>
            <a:ext cx="53316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2268360" y="4267080"/>
            <a:ext cx="574920" cy="38124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2268360" y="4648320"/>
            <a:ext cx="474840" cy="38088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2050920" y="5084640"/>
            <a:ext cx="457200" cy="38124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20:00:01Z</dcterms:created>
  <dc:creator>crojas</dc:creator>
  <dc:description/>
  <dc:language>en-US</dc:language>
  <cp:lastModifiedBy>Susana</cp:lastModifiedBy>
  <dcterms:modified xsi:type="dcterms:W3CDTF">2016-04-15T07:26:38Z</dcterms:modified>
  <cp:revision>97</cp:revision>
  <dc:subject/>
  <dc:title>PowerPoint Presentation  -  ¿Dónde va la tilde? Los acentos ortográficos en el español</dc:title>
</cp:coreProperties>
</file>